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bserie06.wav" ContentType="audio/x-wav"/>
  <Override PartName="/ppt/media/jetflyby2.wav" ContentType="audio/x-wav"/>
  <Override PartName="/ppt/media/spacesound3.wav" ContentType="audio/x-wav"/>
  <Override PartName="/ppt/media/jetflyby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89A-9797-40BF-AE14-D6C8B596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330-1709-407E-AB56-2AA03225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C26-ECA4-43BE-8BA4-169046A7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D0C-1E36-4BEB-A85C-E03085B2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CC6E-5D9B-43A9-AF11-00456245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2EB-77CC-45C6-A467-1EFE3DF2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53A-8064-4A0D-B48A-F4843FBB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5C9-8BD2-417A-B82C-DBFAA0AE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9D6-5052-4693-8017-1AF68572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823-9A41-43C3-8E06-31A96B31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CDE-4078-46A1-BB3E-071A6657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8F00-C05F-4754-AFDB-9F7E8760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4AF5-A169-4C77-BA33-04C4C3F6D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spacesound3.wav"/><Relationship Id="rId8" Type="http://schemas.openxmlformats.org/officeDocument/2006/relationships/audio" Target="../media/spacesound3.wav"/><Relationship Id="rId9" Type="http://schemas.openxmlformats.org/officeDocument/2006/relationships/audio" Target="../media/jetflyby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spacesound3.wav"/><Relationship Id="rId7" Type="http://schemas.openxmlformats.org/officeDocument/2006/relationships/audio" Target="../media/spacesound3.wav"/><Relationship Id="rId8" Type="http://schemas.openxmlformats.org/officeDocument/2006/relationships/audio" Target="../media/jetflyby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jetflyby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spacesound3.wav"/><Relationship Id="rId7" Type="http://schemas.openxmlformats.org/officeDocument/2006/relationships/audio" Target="../media/spacesound3.wav"/><Relationship Id="rId8" Type="http://schemas.openxmlformats.org/officeDocument/2006/relationships/audio" Target="../media/jetflyby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6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17440" y="1362240"/>
                <a:ext cx="86137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76280" y="2075040"/>
                <a:ext cx="13161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812960" y="2130480"/>
                <a:ext cx="20527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833400" y="3081240"/>
                <a:ext cx="5256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70160" y="3043080"/>
                <a:ext cx="20523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820880" y="4846680"/>
                <a:ext cx="7891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373040" y="3933720"/>
                <a:ext cx="578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901880" y="3924360"/>
                <a:ext cx="11048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6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47760" y="1268280"/>
                <a:ext cx="7627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93640" y="2147760"/>
                <a:ext cx="16318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062080" y="2028960"/>
                <a:ext cx="12114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209680" y="3147840"/>
                <a:ext cx="9986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36480" y="3157560"/>
                <a:ext cx="16318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509840" y="5110200"/>
                <a:ext cx="1209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216080" y="4194000"/>
                <a:ext cx="8920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96920" y="4110120"/>
                <a:ext cx="10004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6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23840" y="1290600"/>
                <a:ext cx="80773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÷</m:t>
                        </m:r>
                        <m:r>
                          <m:t xml:space="preserve">r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57080" y="2252520"/>
                <a:ext cx="578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231920" y="2182680"/>
                <a:ext cx="20019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÷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789200" y="3119400"/>
                <a:ext cx="998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235160" y="3174840"/>
                <a:ext cx="5792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92280" y="4122720"/>
                <a:ext cx="8413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6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20760" y="1407960"/>
                <a:ext cx="8823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01560" y="2211480"/>
                <a:ext cx="14716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000160" y="2168640"/>
                <a:ext cx="28447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479760" y="3281400"/>
                <a:ext cx="5796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816120" y="3228840"/>
                <a:ext cx="3476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230560" y="5092560"/>
                <a:ext cx="5792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751120" y="4240080"/>
                <a:ext cx="8398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295280" y="4248000"/>
                <a:ext cx="14734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÷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66860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73, 3 – 6 #1-1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2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4-09-06T03:11:39Z</dcterms:modified>
  <cp:revision>65</cp:revision>
  <dc:subject/>
  <dc:title>Slide 1</dc:title>
</cp:coreProperties>
</file>